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110915"/>
        <c:axId val="57762648"/>
      </c:barChart>
      <c:catAx>
        <c:axId val="261109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762648"/>
        <c:crosses val="autoZero"/>
        <c:auto val="1"/>
        <c:lblAlgn val="ctr"/>
        <c:lblOffset val="100"/>
        <c:noMultiLvlLbl val="0"/>
      </c:catAx>
      <c:valAx>
        <c:axId val="577626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1109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BE28-76B9-417C-9478-0F9DBAB42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F965-348B-473C-A355-04509274B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E0FA-29CE-4739-83BA-78433AE6E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4E34-0376-4337-AF22-CE7B33432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9CEA-7EA5-47EC-AB25-8E1E8CCE8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0F67-BAC6-41BB-AAD6-4B10FEDE5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D641-386B-4D94-BE1F-882C0721D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0D20-09EE-4FC0-B40B-63EA28385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BB1E-A0E7-4300-B2AF-C178B7F13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56E3-4E71-4A43-9FEE-B840B98EB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2F3B-2348-4238-98DE-841B08C7F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1521-8BC9-49DB-8733-7367864EE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427543-963C-496B-A61B-22BA41ACB28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